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240-5767-4B87-995A-5B942F18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9A5-0078-45B4-AA3A-ACF598E9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4AD-0BAB-4898-8AE1-566E5646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931-E516-4C85-8088-8CF34A46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780-250B-4858-99A2-90016983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AFF-1BE1-416C-A6D4-EF8867FE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7A0-CCB0-421B-8A2C-7C9C5303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BE6-BF4C-4690-B753-6F9F1DD6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125-AEDA-4605-818C-82DE4039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5B9-66E2-4E25-9FDB-41DDF404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B10-110C-4F0A-83AE-E438B5F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056-983C-48A5-95D7-7AF98114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2044-06A2-496E-B998-DD5634DC4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/imgres?imgurl=http://iheartya.files.wordpress.com/2009/02/experience-alaska.jpg&amp;imgrefurl=http://iheartya.wordpress.com/2009/02/&amp;usg=__3Ka1z5dQu4w8lBlCv8Ykus48WNk=&amp;h=494&amp;w=741&amp;sz=63&amp;hl=en&amp;start=3&amp;tbnid=Nwg0qesQHUL08M:&amp;tbnh=94&amp;tbnw=141&amp;prev=/images%3Fq%3Dalaska%26gbv%3D2%26hl%3Den%26safe%3Dactive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000000">
            <a:off x="2057400" y="685800"/>
            <a:ext cx="5486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latin typeface="Script MT Bold"/>
              </a:rPr>
              <a:t>The Western 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latin typeface="Script MT Bold"/>
              <a:ea typeface="Script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2800080" cy="487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67080" y="3352680"/>
            <a:ext cx="4648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Emily Gant, Nandini Chakrabarty and Megan Rob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5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19520" y="228600"/>
            <a:ext cx="3504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Eras Light ITC"/>
              </a:rPr>
              <a:t>Alask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Eras Light ITC"/>
              <a:ea typeface="Eras Light ITC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1371600"/>
            <a:ext cx="2895840" cy="19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16765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58920" cy="220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267080"/>
            <a:ext cx="2743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-June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pulation-683,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mate-tundra and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bar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44956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volcanoes are fou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ere. Earthquakes occu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. Oil and gas help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laska’s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0" y="0"/>
            <a:ext cx="4267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alifornian FB"/>
              </a:rPr>
              <a:t>Californ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72200" y="304920"/>
            <a:ext cx="207180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5373720"/>
            <a:ext cx="1600200" cy="148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5715000"/>
            <a:ext cx="3809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-Sac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-36,553,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-Mediterranean and 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57150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gold, and grapes are a main part of California’s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66680" y="22860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Eras Light ITC"/>
              </a:rPr>
              <a:t>Colorado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Eras Light ITC"/>
              <a:ea typeface="Eras Light ITC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3276720" cy="259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869080" y="4191120"/>
            <a:ext cx="3274920" cy="266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57200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Den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-4,861,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57150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conomy depends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hydroelectric power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gri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724280" y="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25751" dir="18900000" blurRad="0" rotWithShape="0">
                    <a:srgbClr val="ff3300"/>
                  </a:outerShdw>
                </a:effectLst>
                <a:latin typeface="StoneSerif SBIN SmBd v.1"/>
              </a:rPr>
              <a:t>Hawaii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25751" dir="18900000" blurRad="0" rotWithShape="0">
                  <a:srgbClr val="ff3300"/>
                </a:outerShdw>
              </a:effectLst>
              <a:latin typeface="StoneSerif SBIN SmBd v.1"/>
              <a:ea typeface="StoneSerif SBIN SmBd v.1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2990880" cy="2046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7600" y="3886200"/>
            <a:ext cx="5486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-Honol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-1,283,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mate-Tropical Rain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ir economy mainly relies on tourism and fr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3:03:37Z</dcterms:created>
  <dc:creator>nandinichakrabarty</dc:creator>
  <dc:description/>
  <dc:language>en-US</dc:language>
  <cp:lastModifiedBy>nandinichakrabarty</cp:lastModifiedBy>
  <dcterms:modified xsi:type="dcterms:W3CDTF">2009-04-14T13:36:39Z</dcterms:modified>
  <cp:revision>4</cp:revision>
  <dc:subject/>
  <dc:title>Slide 1</dc:title>
</cp:coreProperties>
</file>